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6222-7BFE-48AE-879E-F2963380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283-F9D3-4730-810E-90133905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4B58-8EAD-4FA8-8F9F-305FE0F6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875-CEA8-4992-96A8-51167ED8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075E7-8E60-4EF8-8F02-28C7BA53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715D2-CE7D-4721-9B63-FD3AB44E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778D9-24D2-4DBF-91F8-7814B82E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826E0-D3CC-4BD8-A33D-021C5363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E319A-5835-4928-929A-4FA7F35F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F4EE8-B094-4136-AF77-A65DAEC3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6225B-5E64-4A9A-ADC1-5D191469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27E-0DD7-440F-BFFA-E0A2B844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F92ED-6986-42E0-96A7-7EEC53C5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47E86-2EE9-43A4-AC1C-0FF4841C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21F08-E114-4ECE-9603-263D26C1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59D49-1B1B-49B4-8358-95E15C03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9240A-7ADC-448D-BB9C-871B2E3A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8C75-B2C2-4AA0-B55C-4709FAEF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8C00-5706-41F8-BECA-66DB171A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216F-36F0-463F-8C8C-0FCFDD58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919F-E12E-4BAC-B637-03CB365A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6C8-917D-42BF-BB3A-6CEE086B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B435-6809-47F3-A71A-FF78910F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0A22-D7D9-4F6A-B3CC-3645A12D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8D8D-9E2C-4B43-AB27-58E489D57DA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AEAC-EA87-4FF7-8E86-4C35EB7E51E9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askerville Old Face"/>
              </a:rPr>
              <a:t>Stream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mber Ri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By: Ahren McCutche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MC900198101[1]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3733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MC900198101[1]"/>
          <p:cNvPicPr/>
          <p:nvPr/>
        </p:nvPicPr>
        <p:blipFill>
          <a:blip r:embed="rId2"/>
          <a:stretch/>
        </p:blipFill>
        <p:spPr>
          <a:xfrm>
            <a:off x="0" y="0"/>
            <a:ext cx="2133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Problems on the Eco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re is one main problems that has happened to this eco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problem is pollution of the water that runs all through the rivers and stre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2" descr="http://2.bp.blogspot.com/_SpH7EL7jLqU/Swux64HJHbI/AAAAAAAAAGg/-cQecMBM2qE/s1600/river-pollution-pv.jpg"/>
          <p:cNvPicPr/>
          <p:nvPr/>
        </p:nvPicPr>
        <p:blipFill>
          <a:blip r:embed="rId1"/>
          <a:stretch/>
        </p:blipFill>
        <p:spPr>
          <a:xfrm>
            <a:off x="0" y="411480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Effect on Organism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Over the past six years, the Humber River has been hit with 900 oil spills and 750 chemical spill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acteria levels haven't improved, fish habitat has deteriorated and summer water flows have decrease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Effect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f there is pollution then the animals can’t live in the water and all the surrounding animals won’t be able to drink from the wa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is would probably kill of the entire or at least most of this ecosystem if it got too b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Effects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irst the weaker animals would die off then there predators would di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lack of food would cause their predators to die and this chain would go on until something is done or until most or all of the animals d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How Humans Effect Eco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We are the ones that are dumping our garbage into the river and stream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lso in more rural areas we would put the pesticides on the plants that would cause runoff into the riv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Solutions to the Probl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teps to helping clean up the river have already been taken but more help is need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f we want to put the river back into the shape it was in before this was happening people al around Toronto will have to help 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Solutions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eople living near the Humber river have already volunteered to help clean it up but that is not enough peop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y solution is to get more people to help clean up the parts of the river that flow in Toronto because there are at least a million people that could help 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Solutions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other thing that contributes to the pollution problem is runoff from far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y solution to this problem is to contol how much pesticide farmers can put on their cr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is would help reduce the pollution going into the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 think that fresh water streams are a wonderful thing that I want to preserve so my grandchildren can s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is can happen if we all look out for these ecosystems and if we all help clean them 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re are many different solutions to the problems that have come up so it can be d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ahoma"/>
              </a:rPr>
              <a:t>http://www.chrs.ca/Rivers/Humber/Humber_e.ht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ahoma"/>
              </a:rPr>
              <a:t>http://themaplescottages.ca/userfiles/image/lake%20trout.jp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ahoma"/>
              </a:rPr>
              <a:t>http://www.combat-fishing.com/SFWOzStreamMiddle.JP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ahoma"/>
              </a:rPr>
              <a:t>http://2.bp.blogspot.com/_SpH7EL7jLqU/Swux64HJHbI/AAAAAAAAAGg/-cQecMBM2qE/s1600/river-pollution-pv.jp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able of Content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ome summar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cosystems within the bio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roduc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d we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fect on animals by huma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reats and solu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ty interaction within the eco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ncl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ome Summary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anada has the largest supply of freshwater of any country in the worl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freshwater biome has a wide range of organisms that live a sustainable lifestyle, whether they are aquatic or terrestria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Summary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salt concentration of the water is usually less than 1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quatic animals and plants that live there can only survive because of this concentra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f an animal from this biome was moved to a marine biome it would die because it wouldn’t be used to that salt concentra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Summary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is biome consists of many resources necessary for the survival of organisms within their eco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any different fish species live in this biome at this is one of our natural re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http://themaplescottages.ca/userfiles/image/lake%20trout.jpg"/>
          <p:cNvPicPr/>
          <p:nvPr/>
        </p:nvPicPr>
        <p:blipFill>
          <a:blip r:embed="rId1"/>
          <a:stretch/>
        </p:blipFill>
        <p:spPr>
          <a:xfrm>
            <a:off x="533520" y="4952880"/>
            <a:ext cx="7619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Ecosystems Within the Bio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ere are 5 main types of Ecosystems within the fresh water Bi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ey are; ponds, creeks, rivers, lakes and the one I will be focusing on is stream Eco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 will be looking at one set of streams in particular and this will be in the Humber Ri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Introduction to my Eco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e Humber River is located extensively in southern Ontario between Georgian Bay and Lake Ontari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t flows through the Greater Toronto Are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ts mouth is in Toronto and in the Etobicoke are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e main part of the Humber River travels 100 km through a variety of natural habitats in both rural and urban landscap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Food We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2" descr="http://www.combat-fishing.com/SFWOzStreamMiddle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4:22:07Z</dcterms:created>
  <dc:creator>User</dc:creator>
  <dc:description/>
  <dc:language>en-US</dc:language>
  <cp:lastModifiedBy>Lisa</cp:lastModifiedBy>
  <dcterms:modified xsi:type="dcterms:W3CDTF">2010-10-18T12:27:02Z</dcterms:modified>
  <cp:revision>33</cp:revision>
  <dc:subject/>
  <dc:title>Streams</dc:title>
</cp:coreProperties>
</file>